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5AF-7D0B-4088-9899-06B828DD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65A-5847-4716-9F48-2DAD5EA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EE1-D296-406E-AE40-D9878CEB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A52-6A4A-43B8-8937-458C00E5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67D-AB6F-4286-989A-90B77FCC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10A-E10A-474A-B675-D8C928C1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B11-6419-463C-A299-93016F1F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3C0-1179-4BE5-B185-6E67B29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38F-7ABE-4B8B-920F-BE0024D2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C21-8942-4B7D-ABCD-075FFC4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BFB-B93C-4A89-A9D3-E5EC5C0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BF3-0316-4299-92CB-3CED4F1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AC07-EA1F-4738-9B4D-187BEEB25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68120"/>
            <a:ext cx="89154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371600"/>
          <a:ext cx="8458200" cy="5297400"/>
        </p:xfrm>
        <a:graphic>
          <a:graphicData uri="http://schemas.openxmlformats.org/drawingml/2006/table">
            <a:tbl>
              <a:tblPr/>
              <a:tblGrid>
                <a:gridCol w="914400"/>
                <a:gridCol w="3810240"/>
                <a:gridCol w="3733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-223200"/>
            <a:ext cx="8915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 Complete a map for one course or subject and conduct a mixed group revi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838080"/>
          <a:ext cx="8839080" cy="6019920"/>
        </p:xfrm>
        <a:graphic>
          <a:graphicData uri="http://schemas.openxmlformats.org/drawingml/2006/table">
            <a:tbl>
              <a:tblPr/>
              <a:tblGrid>
                <a:gridCol w="914400"/>
                <a:gridCol w="2387520"/>
                <a:gridCol w="2806560"/>
                <a:gridCol w="273060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  In-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5  Study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00-4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8  In-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strategies can be used to ensure high quality map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the mapping process be used to make instructional decis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ping is a two-sided coin: diagnosis and prescrip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finition of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mponents and exam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nn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products that could be produced in the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ching protocols can be used to ensure high quality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The components: essential questions, concept/content, skills, assess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aching protocols and rub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Read Through process provides data that can be used to make instructional decis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even Stage Review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rocess and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Targets and prior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Action Plan..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components of a ma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Review different maps and determine the specific elements that provide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connections with other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reasons for mapp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npack standards to identify precision skills and cont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velop quality maps using a step-by-step approac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se coaching protocols and rubric to strengthen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ummarize the Review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se protocol to implement the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llect and analyze da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targets and prior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velop an Action Plan to address gaps and repeti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distinguishing between old and new ter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connecting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reasons for mapp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products that can be produced in the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standards the teams have unpack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month quality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edback and highlights from coaching sessions using protoco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harts from different tea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of data from Read Through with noted prior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Plan to address targe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a unit you wish to map and  identify the most important concept you want students to understa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two more months and bring them to the next study group se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 the Action Pl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28600" y="-17640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oal(s):   Use Curriculum Mapping as the HUB for all school improvement initiat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860400"/>
          <a:ext cx="8991720" cy="6023160"/>
        </p:xfrm>
        <a:graphic>
          <a:graphicData uri="http://schemas.openxmlformats.org/drawingml/2006/table">
            <a:tbl>
              <a:tblPr/>
              <a:tblGrid>
                <a:gridCol w="922320"/>
                <a:gridCol w="2408400"/>
                <a:gridCol w="2817720"/>
                <a:gridCol w="2843280"/>
              </a:tblGrid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ervice (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 ( integrated 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 (integrated 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mapping be used as a tool in other training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y map literac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mapping support our work  in Ub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“Backwards Design” be used to sharpen our map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 can serve as  a HUB for school improvement 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urpose/Rat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nections with other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Quality exam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guage capacity is the root of all student performan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n Essential Strategies for integrating       Active Literacy skills (e.g. vocabulary, note taking, editing and revising, speaking and listening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Examples of maps that have that include the  integration of literacy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s Design  focuses on beginning with the end in mi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efinition of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xamples of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urpose and Value-Added Fo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pplication of the principles with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the strengths and chang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at would enhance the curricul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shared 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sample ma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quality indic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how a map can be used as a  tool to link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instorm possible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specific literacy skills they coul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 at their grade level or in their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expected level of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in small groups to brainstorm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sib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maps and integrate appropriate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  UbD and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reasons to incorporate 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pairs and apply the principles of Ub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vidual ma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 maps to strengthen foc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strength and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s with integrated literacy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maps that incorporate UbD princi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unit map to bring to the next in-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ng feedback from lesson to after school study group se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the UbD principles and tools to develop  another unit ma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1"/>
          <p:cNvSpPr/>
          <p:nvPr/>
        </p:nvSpPr>
        <p:spPr>
          <a:xfrm>
            <a:off x="3505320" y="6004080"/>
            <a:ext cx="2743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56:33Z</dcterms:created>
  <dc:creator>Ann Johnson</dc:creator>
  <dc:description/>
  <dc:language>en-US</dc:language>
  <cp:lastModifiedBy>Ann</cp:lastModifiedBy>
  <dcterms:modified xsi:type="dcterms:W3CDTF">2009-07-20T12:47:19Z</dcterms:modified>
  <cp:revision>5</cp:revision>
  <dc:subject/>
  <dc:title>Slide 1</dc:title>
</cp:coreProperties>
</file>